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F003-C9BF-4B55-8480-CE1AEDF2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3C6-E926-464A-93CF-DA6FA72F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A16-982C-40D5-85E1-FFE288CC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3E6-DDD8-4535-8E3A-BCB94005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911-0E32-4C08-9A18-72243596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95CE-A670-4046-AF15-E737DF6B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0430-03F9-4BE2-9167-53F28E83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E31-8D57-4B53-990E-9A362F9B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9219-B2B3-4F00-8456-855C8C78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5C4-3226-4327-97EE-04F17816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B1C-EE18-49F4-BC50-23138E43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206-E221-4D03-AA83-B58BB3E3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8EE9-5280-4D1B-8609-D8DFEAB79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880" y="2924280"/>
            <a:ext cx="69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КОРАЦИ И 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АКТИВНОСТИ ТИМА ЗА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4240" y="1406520"/>
            <a:ext cx="662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в)УНОШЕЊЕ ПРОГРАМА У ШКОЛСКА ДОКУ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84960" y="1989000"/>
            <a:ext cx="699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грам ПО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ставни део Годишњег плана 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некс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Школског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з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део Школског развојног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ео самовредновања и екстерног вредновања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7640" y="1293840"/>
            <a:ext cx="8087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МЕНТОРСКИ САСТАНЦИ 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као под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шка школама по :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ЕДОВНИ КОНТАКТ СА ТРЕНЕРОМ/МЕНТОРОМ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 2/МОШ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)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 МЕНТОРСКА САСТАНК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СА КООРДИНАТОРОМ И ТИМ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1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/М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20360" y="3213000"/>
            <a:ext cx="2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3573360"/>
            <a:ext cx="496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ОДРШК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МЕНТОРА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ИМПЛЕМЕНТАЦИЈИ ПРОГРАМ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ПАРТНЕРСКИМ И МЕНТОРСКИМ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ОДНОС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УМРЕЖАВАЊУ СА  ПО ПАРТНЕРИМА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81000" y="2349360"/>
            <a:ext cx="679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КОРАЦИ ПО НАКОН БАЗИЧНЕ ОБ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За МОШ ТИМОВЕ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имплементација Про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јачање мреж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6354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8100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ДОДАТНА ОБУКА КРОЗ 3 МОДУЛА ЗА МОШ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428120"/>
            <a:ext cx="83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буке за петочлане тимове МОШ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кредитоване од стране ЗУОВ/МПН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-Оснаживање младих кроз самоспозн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7-Моду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  информисањем о занимањима, каријери и путевима образо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6-Модул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 11. 03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за одлуку о занимању и школовању у сусрету са светом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5-Модул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1.03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1640" y="155736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АРТНЕРСТВО/МЕНТОРСТВО  И МРЕ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42000" y="2008080"/>
            <a:ext cx="704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2 су у партнерском односу са 9 БОШ1 из првог 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буке, са којим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срећу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трећем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менторском саста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1 и 9БОШ 2 је у партнерском односу између себ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 МОШ1 и МОШ 2  у својој сре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 1   је у менторском односу са МОШ 2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ипрема МОШ 2 за менторство МОШ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960" y="4941720"/>
            <a:ext cx="81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ВИ ОВИ ОДНОСИ ЗАЈЕДНО ЧИНЕ ПО  МРЕЖУ УЗАЈАМНЕ ПОДР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34136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МОШ ТИМОВИ: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492280"/>
            <a:ext cx="583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АЗВИЈАЈУ ОБЛАСТ СПЕЦИЈАЛИЗАЦИЈ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ГРАДЕ ПРИМЕРЕ ДОБРЕ ПРАКС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ПОДРЖАВАЈУ БОШ НА ПУТУ ДО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688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1341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 rot="5400000">
            <a:off x="6192360" y="2817720"/>
            <a:ext cx="446436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СРЕЋ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197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Пред одлуком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ОСТАТИ Б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Ш?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ОСТАТИ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МОШ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637000"/>
            <a:ext cx="789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9 ОШ ПОСТАЈУ БАЗИЧНЕ – Б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 ОШ постаје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МЕНТОР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–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НТОРСКИ СТАТУС СЕ ОСВАЈ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КВАЛИТЕТОМ ИМПЛЕМЕНТАЦИЈЕ И РАЗВОЈА 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КАКО ПОСТАТИ</a:t>
            </a:r>
            <a:br>
              <a:rPr sz="2400"/>
            </a:b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МЕНТОРСКА ШКОЛ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ТИМ ПРОЦЕНИ СЕБЕ И ШКОЛУ  КАО ПОТЕНЦИЈАЛ З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ПОПУНИ  ОДГОВАРАЈУЋИ  ОБРАЗАЦ ЗА ОСВАЈАЊЕ СТАТУС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ОДЛУКУ ЗА МОШ ДОНОСЕ НА ОСНОВУ ПРОПИСАНИХ КРИТЕРИЈУМА ТРЕНЕРИ, КООРДИНАТОР РЦ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/ЦСУ/ЦКОО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 и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GIZ BOSS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ПРОЈЕКТНИ Т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ТРОЧЛАНИ ПО ТИМ СЕ ПРОШИРУЈЕ У МОШ ЗА ЈОШ 2 ЧЛАНА и ПОХАЂА ОБУКУ ЗА МОДУЛЕ 1,2,3 И МЕНТОРСТ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0840" y="2997360"/>
            <a:ext cx="85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ПРОВОДИ АНКЕТУ УЧЕНИКА ЗА  УКЉУЧЕЊЕ  У ПРОГРАМ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ИБАВЉА САГЛАСНОСТ РОДИТЕЉ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за учешће ученика/ца у прогр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ФОРМИРА ГРУПЕ УЧЕНИКА И ДОВРШАВА ПЛАН ИМПЛЕМЕНТАЦИЈЕ</a:t>
            </a: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1480" y="1413000"/>
            <a:ext cx="489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ФОРМИРАЊЕ ГРУПА УЧЕНИК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ЗРАДА ПЛАНА ИМПЛЕМЕНТ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78136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формира најмање ЈЕДНУ  груп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гу да  је чине ученици 8. разреда или 7. раз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шовита г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  обухват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ом ПО  најмање  51% ученика 7. и 8. 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БОШ/МОШ 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груп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од 15-25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652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9480" y="1052640"/>
            <a:ext cx="78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АНКЕТИРАЊЕ УЧЕНИКА ЗА  УКЉУЧИВАЊЕ  У ПРОГРА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777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И САГЛАСНОСТ РОДИТ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лог за сагласност родитељ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205000"/>
            <a:ext cx="8569440" cy="3529080"/>
          </a:xfrm>
          <a:prstGeom prst="foldedCorner">
            <a:avLst>
              <a:gd name="adj" fmla="val 12500"/>
            </a:avLst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ТОВАНИ РОДИТЕЉУ/СТАРАТЕЉУ УЧЕ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,......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ост нам је да вашем  детету понудимо да  учествује у Програ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ПН и ГИЗ БОСС: ”Професионална оријентација на преласку у средњ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колу” и тако упозна своје склоности и интересовања у односу 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дућу школу/занимање, као и богатство света рада и занимања к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жу школа , како би што самосталније могло да донесе одлуку 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бору своје будуће школе/занимањ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 потписом, потврђујете своју сагласност:...........................................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ту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о: 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08200" y="1335240"/>
            <a:ext cx="793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4160" y="2924280"/>
            <a:ext cx="742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АРА ПОДЕЛУ ПОСЛОВА УНУТАР ШКОЛСКОГ 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ЕЗЕНТУЈЕ ПРОГРАМ ПО ШКОЛСКИМ ОРГАНИМА И Т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НОСИ ПРОГРАМ ПО У ШКОЛСКА ДОКУМЕНТА КАО АН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1268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а)ПОДЕЛА ПОСЛОВА УНУТАР ШКОЛСКОГ 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98900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ко је 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координатор школског тим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з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о и како реализује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 презентацију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ПО родитељима ученика и ученицим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гажовањ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на анкетирању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зрад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екса за школску документ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ЗРАДА ПЛАНА ИМПЛЕМЕНТАЦИЈЕ ПРОГРАМА СА ДЕ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АЗВИЈАЊЕ ПАРТНЕРСТВА/МЕНТОРСТВА СА ПО ШКОЛАМА НА ЛОКА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0960" y="177336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б)ПРЕЗЕНТАЦИЈА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РОГРАМА ШКОЛСКИМ ОРГАНИМА И ТЕ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" y="2421000"/>
            <a:ext cx="82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чин презентације програма договара школски т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ограм се  представља  Наставничком већу, Школском одбо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ченичком парламенту, Савету родитељ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верификује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ао Ан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Циљ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: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нформисање свих релевантних  актера о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ктивностим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програм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 школи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чекиваним исход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13:13Z</dcterms:created>
  <dc:creator>vali</dc:creator>
  <dc:description/>
  <dc:language>en-US</dc:language>
  <cp:lastModifiedBy>WINDOWS XP</cp:lastModifiedBy>
  <dcterms:modified xsi:type="dcterms:W3CDTF">2012-02-05T12:02:50Z</dcterms:modified>
  <cp:revision>46</cp:revision>
  <dc:subject/>
  <dc:title>Slide 1</dc:title>
</cp:coreProperties>
</file>